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tif" ContentType="image/tif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E3770-7DEB-432C-9FD9-AFE5B1914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CBB52-A07D-487E-B8C7-D97946864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AC11A-C01E-41CF-B345-BE2E17229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F0398-6116-4643-B329-1054B8496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4D70F-31A9-4C33-B88C-BA5A830AF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4B0C8-F6C5-4824-A3B0-322F27C50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A9C4E-04F5-4A5E-86E4-183D2EF8D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AC932-900F-42E8-8D46-230A10490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2FD94-D3C3-49F6-9F7C-0FE1517DB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6EC2C-F8A6-40B1-A357-05FDB6FFE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3A67B-214A-4ED1-957A-E74545BE7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A4575-4843-48F4-BBE0-3F9AECEE4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E1867-657B-4240-A933-F396820862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t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"/>
          <p:cNvSpPr/>
          <p:nvPr/>
        </p:nvSpPr>
        <p:spPr>
          <a:xfrm>
            <a:off x="4654440" y="0"/>
            <a:ext cx="7537680" cy="6858000"/>
          </a:xfrm>
          <a:prstGeom prst="rect">
            <a:avLst/>
          </a:prstGeom>
          <a:solidFill>
            <a:srgbClr val="4d2d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89400" y="1306080"/>
            <a:ext cx="5478480" cy="266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 Light"/>
              </a:rPr>
              <a:t>Apache Sling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481040" y="3083040"/>
            <a:ext cx="1649520" cy="6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22T15:05:45Z</dcterms:created>
  <dc:creator>Microsoft Office User</dc:creator>
  <dc:description/>
  <dc:language>en-US</dc:language>
  <cp:lastModifiedBy>Microsoft Office User</cp:lastModifiedBy>
  <dcterms:modified xsi:type="dcterms:W3CDTF">2019-05-22T15:06:37Z</dcterms:modified>
  <cp:revision>1</cp:revision>
  <dc:subject/>
  <dc:title>Apache Sling</dc:title>
</cp:coreProperties>
</file>