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D07E-E106-4F15-AE6E-E540B90FE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80A6-6591-4FF1-9315-51E74E79E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7D69-66F2-47AA-809C-A58625323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CAEB-80FA-450D-932E-A992D8472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7599-CB1E-475F-9F18-6DD850B62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42FC-4761-4D4E-A9A9-709E9AB7E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5D6E-351B-4902-93DA-C2C700E8F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0B04-DF03-47D2-85C2-4A06AD228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965F-77C6-41F1-8E94-B358FE62E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0166-60CF-4670-867A-8212B1EDB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B18E-AE52-41AD-9154-E26AC25FB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2B5D-DA7D-4615-8F38-505E553F4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  <a:ea typeface="DejaVu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DejaVu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  <a:ea typeface="DejaVuSan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DejaVu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  <a:ea typeface="DejaVu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7025940-1081-4000-852B-BD8ACA8E55B9}" type="slidenum">
              <a:rPr b="0" lang="en-GB" sz="1400" spc="-1" strike="noStrike">
                <a:solidFill>
                  <a:srgbClr val="000000"/>
                </a:solidFill>
                <a:latin typeface="Arial"/>
                <a:ea typeface="DejaVu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5560"/>
            <a:ext cx="1800" cy="2163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700280"/>
            <a:ext cx="1800" cy="65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2920" cy="595080"/>
            <a:chOff x="2013120" y="1668600"/>
            <a:chExt cx="502920" cy="59508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4120" y="220968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5560"/>
            <a:ext cx="1800" cy="2163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8480"/>
            <a:ext cx="1295640" cy="5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700280"/>
            <a:ext cx="1800" cy="65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3280" cy="595080"/>
            <a:chOff x="6046920" y="1668600"/>
            <a:chExt cx="503280" cy="59508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8280" y="220968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4600"/>
            <a:ext cx="406440" cy="357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 flipV="1">
            <a:off x="3492360" y="1050480"/>
            <a:ext cx="1800" cy="2019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2049120" y="3068640"/>
            <a:ext cx="144468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1st)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rot="21120000">
            <a:off x="291600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492360" y="2274480"/>
            <a:ext cx="935280" cy="79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4427640" y="2274480"/>
            <a:ext cx="1440" cy="144324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2nd)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4427640" y="1843200"/>
            <a:ext cx="504720" cy="43488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3rd)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2701800" y="3933720"/>
            <a:ext cx="2313000" cy="1725840"/>
            <a:chOff x="2701800" y="3933720"/>
            <a:chExt cx="2313000" cy="1725840"/>
          </a:xfrm>
        </p:grpSpPr>
        <p:sp>
          <p:nvSpPr>
            <p:cNvPr id="84" name=""/>
            <p:cNvSpPr/>
            <p:nvPr/>
          </p:nvSpPr>
          <p:spPr>
            <a:xfrm flipV="1">
              <a:off x="3522600" y="4035600"/>
              <a:ext cx="1800" cy="977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2600" y="5011560"/>
              <a:ext cx="12175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701800" y="52912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2822040" y="5011560"/>
              <a:ext cx="70020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719600" y="49086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900680" y="2119320"/>
            <a:ext cx="183024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599000" y="2276640"/>
            <a:ext cx="2016000" cy="1296720"/>
            <a:chOff x="4599000" y="2276640"/>
            <a:chExt cx="2016000" cy="1296720"/>
          </a:xfrm>
        </p:grpSpPr>
        <p:sp>
          <p:nvSpPr>
            <p:cNvPr id="98" name=""/>
            <p:cNvSpPr/>
            <p:nvPr/>
          </p:nvSpPr>
          <p:spPr>
            <a:xfrm>
              <a:off x="4599000" y="2276640"/>
              <a:ext cx="2016000" cy="1296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599000" y="2924280"/>
              <a:ext cx="201600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607000" y="2276640"/>
              <a:ext cx="1800" cy="1296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1270080" y="3933720"/>
            <a:ext cx="2313000" cy="1725840"/>
            <a:chOff x="1270080" y="3933720"/>
            <a:chExt cx="2313000" cy="1725840"/>
          </a:xfrm>
        </p:grpSpPr>
        <p:sp>
          <p:nvSpPr>
            <p:cNvPr id="109" name=""/>
            <p:cNvSpPr/>
            <p:nvPr/>
          </p:nvSpPr>
          <p:spPr>
            <a:xfrm flipV="1">
              <a:off x="2089080" y="4035600"/>
              <a:ext cx="1800" cy="977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089080" y="5011560"/>
              <a:ext cx="12175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7000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270080" y="52912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1390320" y="5011560"/>
              <a:ext cx="70020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287880" y="49086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3468600" y="2119320"/>
            <a:ext cx="183060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3166920" y="2276640"/>
            <a:ext cx="2016360" cy="1296720"/>
            <a:chOff x="3166920" y="2276640"/>
            <a:chExt cx="2016360" cy="1296720"/>
          </a:xfrm>
        </p:grpSpPr>
        <p:sp>
          <p:nvSpPr>
            <p:cNvPr id="123" name=""/>
            <p:cNvSpPr/>
            <p:nvPr/>
          </p:nvSpPr>
          <p:spPr>
            <a:xfrm>
              <a:off x="3166920" y="2276640"/>
              <a:ext cx="2016360" cy="1296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166920" y="2924280"/>
              <a:ext cx="20163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175280" y="2276640"/>
              <a:ext cx="1440" cy="1296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127080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6458040" y="2119320"/>
            <a:ext cx="183024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6156360" y="2276640"/>
            <a:ext cx="2016000" cy="1296720"/>
            <a:chOff x="6156360" y="2276640"/>
            <a:chExt cx="2016000" cy="1296720"/>
          </a:xfrm>
        </p:grpSpPr>
        <p:sp>
          <p:nvSpPr>
            <p:cNvPr id="139" name=""/>
            <p:cNvSpPr/>
            <p:nvPr/>
          </p:nvSpPr>
          <p:spPr>
            <a:xfrm>
              <a:off x="6156360" y="2276640"/>
              <a:ext cx="2016000" cy="1296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156360" y="2924280"/>
              <a:ext cx="201600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164360" y="2276640"/>
              <a:ext cx="1440" cy="1296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21116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567120" y="3529080"/>
            <a:ext cx="663480" cy="6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 flipV="1">
            <a:off x="4929120" y="4176720"/>
            <a:ext cx="44784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cp:revision>0</cp:revision>
  <dc:subject/>
  <dc:title>Diapositiva 1</dc:title>
</cp:coreProperties>
</file>